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5F9-FBBD-4362-8924-E0F5F784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D05-7C81-4D45-8100-1DB5B98D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A18-7397-47CB-AD3B-0EE45762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CFF-41F9-4C96-AE5B-34782147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84EC-244B-4778-9D7D-46175A9E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0E7A-D95C-4AD7-BCEA-C7CD9271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C36B-E026-416F-A3E8-BFA4AD49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51B9-4C42-4092-9651-30B6EBA5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3527-6C17-41F2-A9FB-A7CBDC64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9A3D-953A-442F-B8CA-FDC5EA59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146D-9D42-4128-9B92-A9B0628E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466-BDBB-4E11-B3A7-1A4CB791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F4EB-46C7-4A4F-8F2E-1E0D56B2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9735-1EA9-4A7B-8238-DE674661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1A28-5EF6-46FF-BDA1-32B34926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2729-FEF1-493E-A2D3-79A61603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01BE-2A05-48C7-A26C-AFB9DAA3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B1B6-A191-4FA6-B962-A053EB0E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4E49-D525-4D57-9442-B3A7FBA0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A828-F9EC-4D3B-980A-10308D28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25D9C-8183-4112-9419-6C5B0E8E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9E76-821E-48A5-8FF4-7312F79E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070-2A5C-41F6-80F7-78016EB0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8618B-0889-42F4-937D-13228FAD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559F-623A-4099-82BD-DE01CAF1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8BB9-A86E-478E-847F-6AE1DDF2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D1D3-DEC3-4546-8885-918DAA4F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C3F93-A26D-47AF-B82B-C7ADF04C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A023-2B15-4C0B-A2BD-BE4EA2BA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D30D-58CF-4152-A8C6-32DB4878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00240-BF24-476A-90A7-94EA0E61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DC86A-6A9F-4B64-8259-AB55BFD7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0098C-925C-4EB2-B724-0BC0127A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B63-2F05-4C6C-9093-A6210410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486C1-F0BC-4074-8845-4C6D0A79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9804-51DD-422D-856E-A11A780B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FB4F2-034E-4A0A-BF8D-CFA5DC1C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7340B-409D-49FA-B432-89ED31E1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52D6-9FA3-4AE2-A893-7E246035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79040-13E5-432F-99FA-77FE3707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BD11-1E46-4A6F-9FE8-0F3AB501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26E92-5C25-4ACE-A91F-E42FE7B9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C07A-2198-46D7-90FB-0B161CFF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95C-AB70-430E-918D-3FF87765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072-82B9-422E-BC6E-022D973C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408-232E-43FE-B735-3E5BD331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979-EB1D-4412-97EF-553AABBD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1C0-B9AC-493C-B312-8CD8E3AE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9627-65F4-416E-8366-772C9334C93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23C1-A0FE-4D0E-BF70-D71F557AFD1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4EA6-E6E7-45E3-829C-62E9ED63664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2525-654D-4727-82ED-A57D81E90DF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: Josh Graff, Cooper Tollen and William Rayn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as Press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s pressure is a result of gas particles bouncing and hitting walls, or outer for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s pressure can only exist in closed contain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open containers, gas particles will esca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www.barometerplanet.com/wp-content/uploads/2009/09/merc_barometer.jpg"/>
          <p:cNvPicPr/>
          <p:nvPr/>
        </p:nvPicPr>
        <p:blipFill>
          <a:blip r:embed="rId1"/>
          <a:stretch/>
        </p:blipFill>
        <p:spPr>
          <a:xfrm>
            <a:off x="2438280" y="2144880"/>
            <a:ext cx="4419720" cy="43750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ro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ometer- instrument that measures atmospheric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MT and Distribution Cur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MT (Kinetic Molecular Theory)- states that as temperature increases, more energy will be released and particles move faster, generating a greater distribution of particle sp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posite applies for cooler temperatures as w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lvin Scale (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lvin- A unit of temperature measurement used in scientific studi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ote: Kelvin= Celsius +27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is used for temperature measurement because it is directly proportional to the average kinetic energy of the particles in a substan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6" descr="http://abyss.uoregon.edu/~js/images/celsius_kelvin.gif"/>
          <p:cNvPicPr/>
          <p:nvPr/>
        </p:nvPicPr>
        <p:blipFill>
          <a:blip r:embed="rId1"/>
          <a:stretch/>
        </p:blipFill>
        <p:spPr>
          <a:xfrm>
            <a:off x="5410080" y="1371600"/>
            <a:ext cx="312444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6:44:02Z</dcterms:created>
  <dc:creator>14jgraff</dc:creator>
  <dc:description/>
  <dc:language>en-US</dc:language>
  <cp:lastModifiedBy>14jgraff</cp:lastModifiedBy>
  <dcterms:modified xsi:type="dcterms:W3CDTF">2012-04-26T17:05:39Z</dcterms:modified>
  <cp:revision>3</cp:revision>
  <dc:subject/>
  <dc:title>Kinetic Energy and Gas Pressure</dc:title>
</cp:coreProperties>
</file>